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image23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9F1-7AE9-40EC-AD94-D63C74F1F31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B007-60FB-44F6-A77E-9CD18DF5878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1AE-5BAB-49B3-8D3D-91D33070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EB0-1F71-439E-BA77-FDCF9F60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D41-C828-465E-9179-73E76FC5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7C2-EE94-48B1-B7F9-861C115A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1A0-189D-4D18-9509-926C9BEF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67A-F005-4E11-9B50-406494CA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C6E-D087-455D-B99C-761EA49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30C-69E1-4FE6-8322-639DB782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3EE-2D3E-417C-8221-041CC142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37A-9B35-4E23-8043-B752705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38C-4DAD-4769-ADE3-7B2ADEF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C4E-E4F8-49E0-A685-37FE69B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B3B-838E-46D4-87E3-4180F9337A0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95580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1643040"/>
            <a:ext cx="7358040" cy="398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uerpos cetónico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306720" y="2143080"/>
            <a:ext cx="75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Bolill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Rectángulo"/>
          <p:cNvSpPr/>
          <p:nvPr/>
        </p:nvSpPr>
        <p:spPr>
          <a:xfrm>
            <a:off x="214200" y="2714760"/>
            <a:ext cx="7358040" cy="375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Bolill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 Rectángulo"/>
          <p:cNvSpPr/>
          <p:nvPr/>
        </p:nvSpPr>
        <p:spPr>
          <a:xfrm>
            <a:off x="285840" y="2071800"/>
            <a:ext cx="7358040" cy="3143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. 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143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500040" y="0"/>
            <a:ext cx="81360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 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squema general de la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-oxidación de Ac.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6840720" y="15717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63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 (1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CuadroTexto"/>
          <p:cNvSpPr/>
          <p:nvPr/>
        </p:nvSpPr>
        <p:spPr>
          <a:xfrm>
            <a:off x="6588360" y="92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166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4 CuadroTexto"/>
          <p:cNvSpPr/>
          <p:nvPr/>
        </p:nvSpPr>
        <p:spPr>
          <a:xfrm>
            <a:off x="344520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portadora de acilos (PT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5" name="Rectangle 5"/>
          <p:cNvSpPr/>
          <p:nvPr/>
        </p:nvSpPr>
        <p:spPr>
          <a:xfrm>
            <a:off x="1285920" y="29289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AF5-A3C4-42A5-ADA6-A95A58F26FD4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I) 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ON Y REGUL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218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5357880" y="2286000"/>
            <a:ext cx="3959280" cy="1617480"/>
            <a:chOff x="5357880" y="2286000"/>
            <a:chExt cx="3959280" cy="1617480"/>
          </a:xfrm>
        </p:grpSpPr>
        <p:pic>
          <p:nvPicPr>
            <p:cNvPr id="222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357880" y="228600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8524800" y="2933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2"/>
          <p:cNvSpPr/>
          <p:nvPr/>
        </p:nvSpPr>
        <p:spPr>
          <a:xfrm>
            <a:off x="500076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3390840" y="3929040"/>
            <a:ext cx="141624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714240" y="4643280"/>
            <a:ext cx="8429760" cy="221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203640" y="26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240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242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246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250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54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58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59 Rectángulo redondeado"/>
          <p:cNvSpPr/>
          <p:nvPr/>
        </p:nvSpPr>
        <p:spPr>
          <a:xfrm>
            <a:off x="2000160" y="2786040"/>
            <a:ext cx="1143000" cy="6429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60 Rectángulo redondeado"/>
          <p:cNvSpPr/>
          <p:nvPr/>
        </p:nvSpPr>
        <p:spPr>
          <a:xfrm>
            <a:off x="6429240" y="2286000"/>
            <a:ext cx="1428840" cy="15717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1571760"/>
              <a:gd name="textAreaBottom" fmla="*/ 1502280 h 1571760"/>
            </a:gdLst>
            <a:ahLst/>
            <a:rect l="textAreaLeft" t="textAreaTop" r="textAreaRight" b="textAreaBottom"/>
            <a:pathLst>
              <a:path w="21600" h="23760">
                <a:moveTo>
                  <a:pt x="3600" y="0"/>
                </a:moveTo>
                <a:arcTo wR="3600" hR="3600" stAng="16200000" swAng="-5400000"/>
                <a:lnTo>
                  <a:pt x="0" y="20160"/>
                </a:lnTo>
                <a:arcTo wR="3600" hR="3600" stAng="10800000" swAng="-5400000"/>
                <a:lnTo>
                  <a:pt x="18000" y="23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61 Rectángulo redondeado"/>
          <p:cNvSpPr/>
          <p:nvPr/>
        </p:nvSpPr>
        <p:spPr>
          <a:xfrm>
            <a:off x="214200" y="2571840"/>
            <a:ext cx="1276560" cy="1285920"/>
          </a:xfrm>
          <a:custGeom>
            <a:avLst/>
            <a:gdLst>
              <a:gd name="textAreaLeft" fmla="*/ 62280 w 1276560"/>
              <a:gd name="textAreaRight" fmla="*/ 1214280 w 1276560"/>
              <a:gd name="textAreaTop" fmla="*/ 62280 h 1285920"/>
              <a:gd name="textAreaBottom" fmla="*/ 1223640 h 1285920"/>
            </a:gdLst>
            <a:ahLst/>
            <a:rect l="textAreaLeft" t="textAreaTop" r="textAreaRight" b="textAreaBottom"/>
            <a:pathLst>
              <a:path w="21600" h="21758">
                <a:moveTo>
                  <a:pt x="3600" y="0"/>
                </a:moveTo>
                <a:arcTo wR="3600" hR="3600" stAng="16200000" swAng="-5400000"/>
                <a:lnTo>
                  <a:pt x="0" y="18158"/>
                </a:lnTo>
                <a:arcTo wR="3600" hR="3600" stAng="10800000" swAng="-5400000"/>
                <a:lnTo>
                  <a:pt x="18000" y="21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62 Rectángulo redondeado"/>
          <p:cNvSpPr/>
          <p:nvPr/>
        </p:nvSpPr>
        <p:spPr>
          <a:xfrm>
            <a:off x="5357880" y="2214720"/>
            <a:ext cx="1071360" cy="150012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500120"/>
              <a:gd name="textAreaBottom" fmla="*/ 1447920 h 1500120"/>
            </a:gdLst>
            <a:ahLst/>
            <a:rect l="textAreaLeft" t="textAreaTop" r="textAreaRight" b="textAreaBottom"/>
            <a:pathLst>
              <a:path w="21600" h="30241">
                <a:moveTo>
                  <a:pt x="3600" y="0"/>
                </a:moveTo>
                <a:arcTo wR="3600" hR="3600" stAng="16200000" swAng="-5400000"/>
                <a:lnTo>
                  <a:pt x="0" y="26641"/>
                </a:lnTo>
                <a:arcTo wR="3600" hR="3600" stAng="10800000" swAng="-5400000"/>
                <a:lnTo>
                  <a:pt x="18000" y="302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9"/>
          <p:cNvSpPr/>
          <p:nvPr/>
        </p:nvSpPr>
        <p:spPr>
          <a:xfrm flipV="1" rot="16200000">
            <a:off x="7004160" y="29955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H="1" flipV="1">
            <a:off x="1785960" y="3643200"/>
            <a:ext cx="1155600" cy="9907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5786280" y="3642840"/>
            <a:ext cx="1428840" cy="1143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6000840" y="3643200"/>
            <a:ext cx="2071440" cy="12859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6"/>
          <p:cNvSpPr/>
          <p:nvPr/>
        </p:nvSpPr>
        <p:spPr>
          <a:xfrm flipH="1" flipV="1">
            <a:off x="2785680" y="3571920"/>
            <a:ext cx="857160" cy="1071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7"/>
          <p:cNvSpPr/>
          <p:nvPr/>
        </p:nvSpPr>
        <p:spPr>
          <a:xfrm flipV="1">
            <a:off x="4714920" y="3571560"/>
            <a:ext cx="214200" cy="11365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3857760" y="3571920"/>
            <a:ext cx="288720" cy="1063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9"/>
          <p:cNvSpPr/>
          <p:nvPr/>
        </p:nvSpPr>
        <p:spPr>
          <a:xfrm flipV="1">
            <a:off x="5292720" y="3643200"/>
            <a:ext cx="779400" cy="1000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0"/>
          <p:cNvSpPr/>
          <p:nvPr/>
        </p:nvSpPr>
        <p:spPr>
          <a:xfrm>
            <a:off x="46836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IENZO Y PROCEDENCIA DE LOS CARBONOS DEL ACIDO G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900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encia de Acetil CoA , Enzimas y Poder red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320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321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322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1403280" y="2925720"/>
            <a:ext cx="5451480" cy="1059840"/>
            <a:chOff x="1403280" y="2925720"/>
            <a:chExt cx="5451480" cy="1059840"/>
          </a:xfrm>
        </p:grpSpPr>
        <p:sp>
          <p:nvSpPr>
            <p:cNvPr id="331" name="Text Box 19"/>
            <p:cNvSpPr/>
            <p:nvPr/>
          </p:nvSpPr>
          <p:spPr>
            <a:xfrm>
              <a:off x="1403280" y="328464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31"/>
            <p:cNvGrpSpPr/>
            <p:nvPr/>
          </p:nvGrpSpPr>
          <p:grpSpPr>
            <a:xfrm>
              <a:off x="3013200" y="2925720"/>
              <a:ext cx="3841560" cy="1059840"/>
              <a:chOff x="3013200" y="2925720"/>
              <a:chExt cx="3841560" cy="1059840"/>
            </a:xfrm>
          </p:grpSpPr>
          <p:sp>
            <p:nvSpPr>
              <p:cNvPr id="333" name="Line 20"/>
              <p:cNvSpPr/>
              <p:nvPr/>
            </p:nvSpPr>
            <p:spPr>
              <a:xfrm>
                <a:off x="3084480" y="3503520"/>
                <a:ext cx="151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21"/>
              <p:cNvSpPr/>
              <p:nvPr/>
            </p:nvSpPr>
            <p:spPr>
              <a:xfrm>
                <a:off x="5076720" y="2925720"/>
                <a:ext cx="17528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22"/>
              <p:cNvSpPr/>
              <p:nvPr/>
            </p:nvSpPr>
            <p:spPr>
              <a:xfrm>
                <a:off x="5102280" y="3575160"/>
                <a:ext cx="175248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23"/>
              <p:cNvSpPr/>
              <p:nvPr/>
            </p:nvSpPr>
            <p:spPr>
              <a:xfrm>
                <a:off x="5532480" y="32446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24"/>
              <p:cNvSpPr/>
              <p:nvPr/>
            </p:nvSpPr>
            <p:spPr>
              <a:xfrm>
                <a:off x="3013200" y="3648240"/>
                <a:ext cx="187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ATP      ADP + 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25"/>
              <p:cNvSpPr/>
              <p:nvPr/>
            </p:nvSpPr>
            <p:spPr>
              <a:xfrm>
                <a:off x="3492360" y="3573360"/>
                <a:ext cx="576360" cy="144720"/>
              </a:xfrm>
              <a:custGeom>
                <a:avLst/>
                <a:gdLst>
                  <a:gd name="textAreaLeft" fmla="*/ 100800 w 576360"/>
                  <a:gd name="textAreaRight" fmla="*/ 417960 w 576360"/>
                  <a:gd name="textAreaTop" fmla="*/ 19080 h 144720"/>
                  <a:gd name="textAreaBottom" fmla="*/ 125640 h 14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Rectángulo"/>
          <p:cNvSpPr/>
          <p:nvPr/>
        </p:nvSpPr>
        <p:spPr>
          <a:xfrm>
            <a:off x="1571760" y="1785960"/>
            <a:ext cx="65721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2 subunidades, multifuncionales, cada una con 3 dominios (I,  II, 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4 Rectángulo"/>
          <p:cNvSpPr/>
          <p:nvPr/>
        </p:nvSpPr>
        <p:spPr>
          <a:xfrm>
            <a:off x="642960" y="28440"/>
            <a:ext cx="8072280" cy="146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tapa II) Reacciones catalizadas por el complejo multienzimátic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55"/>
          <p:cNvSpPr/>
          <p:nvPr/>
        </p:nvSpPr>
        <p:spPr>
          <a:xfrm>
            <a:off x="3071880" y="4808520"/>
            <a:ext cx="241452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8"/>
          <p:cNvSpPr/>
          <p:nvPr/>
        </p:nvSpPr>
        <p:spPr>
          <a:xfrm>
            <a:off x="428472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1"/>
          <p:cNvSpPr/>
          <p:nvPr/>
        </p:nvSpPr>
        <p:spPr>
          <a:xfrm>
            <a:off x="2771640" y="573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1CD-4CBB-4F2B-8110-A9B577ED3CEE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50920" y="214200"/>
            <a:ext cx="8520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I) Reacciones de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50920" y="1197000"/>
            <a:ext cx="866448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íntesis de ac. grasos de hasta 16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GS esta formada por 2 subunidades, cada una con 3 domin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Dominio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ingreso de sustratos y un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 condensación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Acetil transferasa (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Malonil transferasa (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Enzima condensante (KS)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un resto de cisteína (Cys-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Arial"/>
              </a:rPr>
              <a:t>Dominio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unidad de reducción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 enz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Cetoacil reductasa (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Hidroxiacil deshidratasa (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Enoil reductasa (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Posee la porción transportadora de acilos A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Dominio 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iberación de ácidos graso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ee 1enz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- Tioesterasa o Deacilas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826920" y="2924280"/>
            <a:ext cx="2300400" cy="2162160"/>
          </a:xfrm>
          <a:prstGeom prst="rect">
            <a:avLst/>
          </a:prstGeom>
          <a:ln w="0">
            <a:noFill/>
          </a:ln>
        </p:spPr>
      </p:pic>
      <p:sp>
        <p:nvSpPr>
          <p:cNvPr id="391" name="6 CuadroTexto"/>
          <p:cNvSpPr/>
          <p:nvPr/>
        </p:nvSpPr>
        <p:spPr>
          <a:xfrm>
            <a:off x="1295640" y="532764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Una subun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de 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6"/>
          <p:cNvGrpSpPr/>
          <p:nvPr/>
        </p:nvGrpSpPr>
        <p:grpSpPr>
          <a:xfrm>
            <a:off x="866880" y="3511800"/>
            <a:ext cx="2049840" cy="996840"/>
            <a:chOff x="866880" y="3511800"/>
            <a:chExt cx="2049840" cy="996840"/>
          </a:xfrm>
        </p:grpSpPr>
        <p:sp>
          <p:nvSpPr>
            <p:cNvPr id="393" name="Arc 9"/>
            <p:cNvSpPr/>
            <p:nvPr/>
          </p:nvSpPr>
          <p:spPr>
            <a:xfrm flipH="1" rot="21249000">
              <a:off x="899640" y="3787920"/>
              <a:ext cx="358920" cy="67284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rc 10"/>
            <p:cNvSpPr/>
            <p:nvPr/>
          </p:nvSpPr>
          <p:spPr>
            <a:xfrm flipH="1" rot="4392000">
              <a:off x="1549080" y="3504240"/>
              <a:ext cx="357120" cy="50184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rc 11"/>
            <p:cNvSpPr/>
            <p:nvPr/>
          </p:nvSpPr>
          <p:spPr>
            <a:xfrm flipH="1" rot="5810400">
              <a:off x="2322720" y="3372840"/>
              <a:ext cx="303120" cy="8539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rc 12"/>
            <p:cNvSpPr/>
            <p:nvPr/>
          </p:nvSpPr>
          <p:spPr>
            <a:xfrm flipH="1" rot="21249000">
              <a:off x="1533960" y="3909960"/>
              <a:ext cx="358920" cy="39060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rc 13"/>
            <p:cNvSpPr/>
            <p:nvPr/>
          </p:nvSpPr>
          <p:spPr>
            <a:xfrm flipH="1" rot="5934000">
              <a:off x="1990440" y="3954600"/>
              <a:ext cx="358920" cy="29988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 flipV="1">
              <a:off x="1042920" y="4292640"/>
              <a:ext cx="504720" cy="216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 flipV="1">
              <a:off x="2340000" y="3860640"/>
              <a:ext cx="576360" cy="216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1"/>
          <p:cNvGrpSpPr/>
          <p:nvPr/>
        </p:nvGrpSpPr>
        <p:grpSpPr>
          <a:xfrm>
            <a:off x="717840" y="2917800"/>
            <a:ext cx="2519640" cy="2390400"/>
            <a:chOff x="717840" y="2917800"/>
            <a:chExt cx="2519640" cy="2390400"/>
          </a:xfrm>
        </p:grpSpPr>
        <p:sp>
          <p:nvSpPr>
            <p:cNvPr id="401" name="AutoShape 19"/>
            <p:cNvSpPr/>
            <p:nvPr/>
          </p:nvSpPr>
          <p:spPr>
            <a:xfrm rot="9577800">
              <a:off x="968040" y="3212640"/>
              <a:ext cx="2019240" cy="1800360"/>
            </a:xfrm>
            <a:prstGeom prst="pie">
              <a:avLst/>
            </a:pr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0"/>
            <p:cNvSpPr/>
            <p:nvPr/>
          </p:nvSpPr>
          <p:spPr>
            <a:xfrm>
              <a:off x="1619280" y="3933720"/>
              <a:ext cx="720720" cy="503280"/>
            </a:xfrm>
            <a:prstGeom prst="ellipse">
              <a:avLst/>
            </a:pr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1°) Adición del grupo acetil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71468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3419640" y="3286080"/>
            <a:ext cx="24714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7304040" cy="2119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2°) Transferencia de Malonil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alonil-ACP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857920" y="1643040"/>
            <a:ext cx="2471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Malo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5 CuadroTexto"/>
          <p:cNvSpPr/>
          <p:nvPr/>
        </p:nvSpPr>
        <p:spPr>
          <a:xfrm>
            <a:off x="6005880" y="342900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6 CuadroTexto"/>
          <p:cNvSpPr/>
          <p:nvPr/>
        </p:nvSpPr>
        <p:spPr>
          <a:xfrm>
            <a:off x="5362920" y="242892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7 CuadroTexto"/>
          <p:cNvSpPr/>
          <p:nvPr/>
        </p:nvSpPr>
        <p:spPr>
          <a:xfrm>
            <a:off x="4224600" y="40006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alonil-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cetilo se separa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Acetoacetil-AC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 (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9"/>
          <p:cNvSpPr/>
          <p:nvPr/>
        </p:nvSpPr>
        <p:spPr>
          <a:xfrm>
            <a:off x="2286000" y="314316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lang="es-ES" sz="2000" spc="-1" strike="noStrike">
                <a:solidFill>
                  <a:srgbClr val="e46c0a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O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e46c0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C-C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0"/>
          <p:cNvSpPr/>
          <p:nvPr/>
        </p:nvSpPr>
        <p:spPr>
          <a:xfrm>
            <a:off x="142920" y="3214800"/>
            <a:ext cx="264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b05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C-C-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-EC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31"/>
          <p:cNvCxnSpPr/>
          <p:nvPr/>
        </p:nvCxnSpPr>
        <p:spPr>
          <a:xfrm flipV="1">
            <a:off x="492732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32"/>
          <p:cNvSpPr/>
          <p:nvPr/>
        </p:nvSpPr>
        <p:spPr>
          <a:xfrm>
            <a:off x="5651640" y="3071880"/>
            <a:ext cx="3492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 ‖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b05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-C-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e46c0a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–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S-ACP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S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3"/>
          <p:cNvSpPr/>
          <p:nvPr/>
        </p:nvSpPr>
        <p:spPr>
          <a:xfrm>
            <a:off x="5065560" y="42861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4"/>
          <p:cNvSpPr/>
          <p:nvPr/>
        </p:nvSpPr>
        <p:spPr>
          <a:xfrm>
            <a:off x="521352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5"/>
          <p:cNvSpPr/>
          <p:nvPr/>
        </p:nvSpPr>
        <p:spPr>
          <a:xfrm>
            <a:off x="0" y="49291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4 Rectángulo"/>
          <p:cNvSpPr/>
          <p:nvPr/>
        </p:nvSpPr>
        <p:spPr>
          <a:xfrm>
            <a:off x="4861080" y="3571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438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Oval 16"/>
          <p:cNvSpPr/>
          <p:nvPr/>
        </p:nvSpPr>
        <p:spPr>
          <a:xfrm>
            <a:off x="684360" y="2276640"/>
            <a:ext cx="50292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1139760" y="4848120"/>
            <a:ext cx="50328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452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456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468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471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487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881-FF4F-4067-A2D3-7932AB91C10F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507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510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8 CuadroTexto"/>
          <p:cNvSpPr/>
          <p:nvPr/>
        </p:nvSpPr>
        <p:spPr>
          <a:xfrm>
            <a:off x="503640" y="164304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401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ON DEGRADACION-BIOSINTESIS DE 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205740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64832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00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11280" y="1341360"/>
            <a:ext cx="770400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5072040" y="1214280"/>
            <a:ext cx="4071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hígado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 es el principal </a:t>
            </a:r>
            <a:r>
              <a:rPr b="0" i="1" lang="es-ES" sz="2000" spc="-1" strike="noStrike">
                <a:solidFill>
                  <a:srgbClr val="c00000"/>
                </a:solidFill>
                <a:latin typeface="Arial"/>
              </a:rPr>
              <a:t>productor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de C. Cetón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pero es incapaz de usar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18 CuadroTexto"/>
          <p:cNvSpPr/>
          <p:nvPr/>
        </p:nvSpPr>
        <p:spPr>
          <a:xfrm>
            <a:off x="3651480" y="314316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6 Rectángulo redondeado"/>
          <p:cNvSpPr/>
          <p:nvPr/>
        </p:nvSpPr>
        <p:spPr>
          <a:xfrm>
            <a:off x="3000240" y="285840"/>
            <a:ext cx="1928880" cy="857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4792680" y="0"/>
            <a:ext cx="43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12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6-05-21T15:25:52Z</dcterms:modified>
  <cp:revision>146</cp:revision>
  <dc:subject/>
  <dc:title>Diapositiva 1</dc:title>
</cp:coreProperties>
</file>